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799-1A0A-4271-83DD-685C8047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4DC-0E43-4BCF-9546-5E4BA92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3C0-409B-4C48-AA30-2437D920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7F2-F3C5-4C98-A829-0A521C37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4044-D21F-46AA-B24E-B3C87B2D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C479-9E72-4B4A-9203-3093B3B1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BDD7-BF2C-4215-90A9-1E109F48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3BCE-5545-4C75-91D6-BD5112E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98E-2EB7-4DB3-80DC-768DBE4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4EFF-F60D-4DDE-91A9-5CAADB9C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184D-92C0-49C2-829F-B7B8F4B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049-9983-4DCC-AC74-A3C27CEE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D87-3C41-4A38-B1E6-9D1D57FE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EF2-7768-4A11-92BE-1406E21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4C74-A0C4-4132-8B57-4F8E658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437F-E46B-4327-8794-CCAE89BC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D0D2-4FAD-43AD-BE12-5483B417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6D3D8-9218-4F1C-AD3E-2E1913C7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A3250-DA56-4BD5-9137-A6D23179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D2CB0-33C1-424C-8D86-F9016B44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30EFD-C529-4C91-8202-13F14352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3D520-166E-4C1B-BFB8-55BB8859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5A2-4E0F-4ED0-AC28-94B7F556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A54E0-8147-48D3-95D5-0EDC822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E5290-A2C4-4A99-86D2-FB63224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A708D-7674-4DC5-AC87-3869CD3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D2A66-49F5-462F-B4C3-7573DDCE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3B906-8A88-4BFB-BB52-81159D15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1BBD3-2206-414F-8638-EA23F7C7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9BED0-4D91-4A5C-BA7C-71F6D63F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FE65-4F6E-4BDF-8339-B691B5E7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C79F-175F-49D6-B04C-7024D3D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DA89-B067-429E-8752-E73772F4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0EE-599C-49F0-A334-7891E62E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3D32-A66C-40FB-BBE1-E7A6B86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CEDB-5AF5-4D30-B4F2-70AC39D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7079-30A9-4B0C-86D8-ECEA326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394F-1F07-4B16-98D4-642BA13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3C2A0-2018-4906-ABE3-F47A29F2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F511-AFE9-4CE5-8D93-A58300E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0DB5-BB86-4FEC-B0B1-3FD87C1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E6CB-B1B0-43B6-9C4E-E5FEC5DA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E180-B5D0-456B-9D15-250F1599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C2638-F2D7-4A46-913D-051BB1D1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173-DB98-43F6-9896-14BAFAE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B9386-1743-4CE4-9E26-4BDA208D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36C15-6824-42B3-8228-255A3DE5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A178D-406D-4F8B-AA14-C244EFAC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CEEBA-F930-4984-A986-4BD102EE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23238-4290-459A-A3EC-FF201803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9A3E2-4C6F-4A97-8337-AF3A887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069E8-48DE-4FB1-B761-C1DE87D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F332B-F959-4A23-9DF8-8237B5E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358B1-7CD8-494B-A89C-25CEF300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495EB-57B9-4389-BC6D-385AC628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09E-9418-42EA-89EB-A642837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84A05-A81E-4738-AF81-17D0F7D3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9DB2A-4B30-4FE3-BF1D-EF15BAD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F192F-1814-43DE-9A06-72FA95C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55B41-062F-44C3-AA17-723AD653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12FA5-3363-4C99-B3D0-DA96CD5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6E53D-4959-4A6F-B07C-1163C6F5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A9C7C-41DB-4F18-AD98-57BEBAE0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4534A-1F17-428A-B2C0-3856297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73C56-B551-443D-BE67-C4B8890E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B3259-A00F-45BC-992E-5A18745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177-76A8-495D-8D95-2095DBD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32082-3597-4613-87F0-17BA58F2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1CFF4-C498-49D3-92D9-8107469A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03A1C-AC02-42C2-8F64-12C08E4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603F7-A7E9-448B-8532-085B9D29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DFDC9-56D5-41FE-A79D-A02BAE56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F657D-5BD7-42F4-A5A0-AD8F8FFC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BCD10-A508-48FB-91D2-9D3BB97A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C51E0-7699-48E2-A09B-68A9C47B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E79B1-EDD7-489B-8216-843B167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84449-3A4E-4FAC-AFD8-58024C1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00D-E30C-4860-AC82-35D5C593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133DC-4477-4E06-A0EC-601329C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C9F09-9E58-40F5-8033-FB71585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5F697-54CB-4F28-A0BA-7F89EF2E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CFA14-A34B-4B2C-AA05-7282716A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3B0FD-5F48-40B3-8CAF-D8B7B805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549-3F80-4E8F-A9DF-0AE7943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uora yhdysviiv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uora yhdysviiv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uora yhdysviiv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orakulmi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uora yhdysviiv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i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4E2-97AF-4C05-8AAC-69A27CD2BF2F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uorakulmi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orakulmi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orakulmi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orakulmi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ora yhdysviiv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ora yhdysviiv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ora yhdysviiv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ora yhdysviiv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ora yhdysviiv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ora yhdysviiv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orakulmi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i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i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i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i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i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6947-94DD-4BAC-9996-EEB808475430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uora yhdysviiv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ora yhdysviiv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ora yhdysviiv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uorakulmi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ora yhdysviiv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i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9541-B0CF-4A65-9F53-E584F327751B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uorakulmi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orakulmi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uorakulmi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uorakulmi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uora yhdysviiv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ora yhdysviiv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uora yhdysviiv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uora yhdysviiv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uora yhdysviiv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orakulmi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i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i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i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i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i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uora yhdysviiv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10D6-379C-4BD3-B27C-97D39F88A740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uora yhdysviiv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uora yhdysviiv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uora yhdysviiv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uorakulmi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ora yhdysviiv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i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C59-495C-4D6C-98A6-B158205593E5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uora yhdysviiv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ora yhdysviiv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uora yhdysviiv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uora yhdysviiv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uorakulmi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uora yhdysviiv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i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B5C3-CC8A-4609-ACBD-BDE35A364AB2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uora yhdysviiv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i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uora yhdysviiv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uorakulmi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uora yhdysviiv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uora yhdysviiv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ora yhdysviiv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8D4-46C9-4314-806A-E2D38AAE80FB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8800" spc="-1" strike="noStrike">
                <a:solidFill>
                  <a:srgbClr val="464653"/>
                </a:solidFill>
                <a:latin typeface="Franklin Gothic Medium"/>
              </a:rPr>
              <a:t>VOICE THREAD</a:t>
            </a:r>
            <a:endParaRPr b="0" lang="en-US" sz="88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464653"/>
                </a:solidFill>
                <a:latin typeface="Franklin Gothic Book"/>
              </a:rPr>
              <a:t>Annukka</a:t>
            </a:r>
            <a:br>
              <a:rPr sz="1800"/>
            </a:br>
            <a:r>
              <a:rPr b="1" lang="fi-FI" sz="1800" spc="-1" strike="noStrike">
                <a:solidFill>
                  <a:srgbClr val="464653"/>
                </a:solidFill>
                <a:latin typeface="Franklin Gothic Book"/>
              </a:rPr>
              <a:t>Elina</a:t>
            </a:r>
            <a:br>
              <a:rPr sz="1800"/>
            </a:br>
            <a:r>
              <a:rPr b="1" lang="fi-FI" sz="1800" spc="-1" strike="noStrike">
                <a:solidFill>
                  <a:srgbClr val="464653"/>
                </a:solidFill>
                <a:latin typeface="Franklin Gothic Book"/>
              </a:rPr>
              <a:t>Ink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VOICE THREAD 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Ilmainen palvelu, jonka avulla voi jakaa esityksiä ympäri maailma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Kuvia, videoita, tekstiä  ja ääntä, esim. JPEG, GIF, BMP, PNG, PPT, PPS, PDF, DOC, XLS myös Facebook ja Fliktmikäl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Muut voivat kommentoida äänittämällä, kirjoittamalla ja piirtämällä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Oman VT-esityksensä kommentteja voi hallita(moderate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Yhdellä käyttäjällä voi olla useita identiteettejä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DOODLING 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Piirtotyökalu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avainnollistaa kommentt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Esimerkki: http://voicethread.com/about/doodling/#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EMBEDDING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Upottami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Voice Thread -keskusteluja voi siirtää mille tahansa websitell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VT-esityksen voi siirtää helposti myös Moodle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ttp://voicethread.com/about/embedding/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EXPORTING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ttp://voicethread.com/about/exporting/#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Ilmaissovelluksen lisäksi: Pro, k-12, Higher Ed ja Busines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ttp://voicethread.com/help/faq/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1:21:09Z</dcterms:created>
  <dc:creator>Inka&amp;Jari</dc:creator>
  <dc:description/>
  <dc:language>en-US</dc:language>
  <cp:lastModifiedBy>Inka&amp;Jari</cp:lastModifiedBy>
  <dcterms:modified xsi:type="dcterms:W3CDTF">2009-09-24T19:23:40Z</dcterms:modified>
  <cp:revision>16</cp:revision>
  <dc:subject/>
  <dc:title>Voice Thread</dc:title>
</cp:coreProperties>
</file>